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574-FFC7-43A1-91DF-C5CB4F89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AA1-21B9-4619-BFE3-7FD43E3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8A8-E9A5-49E5-8D50-C40C1638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DDB-7A68-47F4-A744-1EBC709A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17E-2021-49EE-8FC7-091D8D68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AB2-8DA4-42C4-920B-3D7ECC2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E60-1106-4BBA-BB33-6AC00A6C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858-EDE9-4775-B295-0F043F0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861-1838-462E-B4B1-A860C2D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2B2-4B66-4095-BF79-DF1DDD0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49A-C5A6-4D14-91AF-50D1A3D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3BA-2720-459F-B19A-1BC6E12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594-9684-4A84-941E-1B1D4601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w.w3.org/topic/DanCorwi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xikos.com/agency.jsp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ther 3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 system AP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offer data to EMRwrap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ur 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9:40:29Z</dcterms:modified>
  <cp:revision>31</cp:revision>
  <dc:subject/>
  <dc:title>COI Architecture? </dc:title>
</cp:coreProperties>
</file>